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07969"/>
        <c:axId val="198405"/>
      </c:barChart>
      <c:catAx>
        <c:axId val="55107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405"/>
        <c:crosses val="autoZero"/>
        <c:auto val="1"/>
        <c:lblAlgn val="ctr"/>
        <c:lblOffset val="100"/>
        <c:noMultiLvlLbl val="0"/>
      </c:catAx>
      <c:valAx>
        <c:axId val="1984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7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DE4-C6D5-4B59-B5EC-F61D8AF3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7A5F-98D7-4D33-A05A-C552F869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9565-75FD-4293-A0FE-B6C8C95E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571-87E6-456A-95D0-3660B37D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92B-D48C-4D4E-A425-D37360FD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BC6E-9B96-4816-9EF5-963A76AB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813-0E32-42F4-8C57-3CD18104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BFDF-EA7D-4DA7-837F-16BD9263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CF0-31A4-4493-9EFF-956E28CF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12D-7C34-4106-A690-931477B6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75A-1492-4456-9691-FFDF3943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E85-1D10-4819-99DC-DE5A482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74806-6E98-4D75-9559-F5FB9FA31C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