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74048"/>
        <c:axId val="79113673"/>
      </c:barChart>
      <c:catAx>
        <c:axId val="20174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13673"/>
        <c:crosses val="autoZero"/>
        <c:auto val="1"/>
        <c:lblAlgn val="ctr"/>
        <c:lblOffset val="100"/>
        <c:noMultiLvlLbl val="0"/>
      </c:catAx>
      <c:valAx>
        <c:axId val="791136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74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4BF-173F-4443-A638-08FFD82C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ADC-7A66-4901-9D45-9F88EA1D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C5F8-C5EF-4E2C-98F9-7BB64FDF2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E8AB-EB14-4AA0-A4B7-206E50F7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ABE-F074-4989-868E-353B2B43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26A6-874C-409F-8185-B5862F27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274-A458-470D-A96E-22F5AEBB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673A-D7BC-40D0-9331-0DA1200E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8338-CD1A-4B64-B1A8-C2F8137B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5826-BA63-4DAE-A717-D9963A6F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38DE-F0BD-48D9-83AC-679A8173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1D3-D882-4C8E-B211-89CAF294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9F2A8-A961-431F-83AC-0A995DCF2A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