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30774"/>
        <c:axId val="85628246"/>
      </c:barChart>
      <c:catAx>
        <c:axId val="71730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28246"/>
        <c:crosses val="autoZero"/>
        <c:auto val="1"/>
        <c:lblAlgn val="ctr"/>
        <c:lblOffset val="100"/>
        <c:noMultiLvlLbl val="0"/>
      </c:catAx>
      <c:valAx>
        <c:axId val="85628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30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DA6-710F-4958-B495-D1903F6A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30E-93FA-47C9-B50B-CF4A5DA1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B61-0138-48AB-904F-42827ECB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D39-8026-436D-AC92-3B8E8B2F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BA6-95D0-4603-A2BE-064EE6D2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CF0-0515-4209-9EA5-34D06EE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67C-726E-428E-82DB-A97C8D10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C27-6FE4-4AD9-88B5-84123CD9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4D1-00B4-4321-A675-30A146CE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0A5-6B8C-4DC9-A6F9-CD622D7D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0EF-1AAC-4DEC-B13A-02510E37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CAF-2AE0-4431-8CD0-CB437927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9B1A3-BFF8-41FF-9460-BD1CDA38F9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