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427108"/>
        <c:axId val="14162894"/>
      </c:barChart>
      <c:catAx>
        <c:axId val="884271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162894"/>
        <c:crosses val="autoZero"/>
        <c:auto val="1"/>
        <c:lblAlgn val="ctr"/>
        <c:lblOffset val="100"/>
        <c:noMultiLvlLbl val="0"/>
      </c:catAx>
      <c:valAx>
        <c:axId val="141628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4271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6AF7-5DD2-4423-850B-4352D78AC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DC99-EBF3-460F-BD5B-E0B49D01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C240-C0B5-4E6A-907B-0CD48B4F1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B40E-7A09-4C3B-AAFA-A186B65E8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5000-F5B2-43F0-9279-A2520A85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EA62-411D-4D6A-8B9D-6D348CAF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EEEE-1E5E-46F8-A872-296EFF72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8F5A-663E-4CD6-A0A2-EB47EB41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D42B-B97A-4B89-A006-65D97B2D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0487-3F10-4C7D-8938-BACEF3AE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CDD1-8685-4535-8403-3A6E755B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1E5F-F474-4F31-BE1B-EDAD6641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FC8487-CCCE-49A1-AFF0-D1BFBE5D6F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