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57386"/>
        <c:axId val="80589360"/>
      </c:barChart>
      <c:catAx>
        <c:axId val="37957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89360"/>
        <c:crosses val="autoZero"/>
        <c:auto val="1"/>
        <c:lblAlgn val="ctr"/>
        <c:lblOffset val="100"/>
        <c:noMultiLvlLbl val="0"/>
      </c:catAx>
      <c:valAx>
        <c:axId val="80589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57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0FE-2C14-4C20-A05F-AF96CD9A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FFE-946E-44EC-8554-936E5E59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C68-9F33-49D4-BB56-DCBEFAC2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B5E-0C40-4732-9469-6567A594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610-C092-4845-8F54-15DCA2B3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D47-70FB-4F53-A31A-81051EA8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02F-DC01-42F2-BB54-88F6014A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DD1-2B7C-4382-AB8E-BC9308E8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600-BFD5-481E-90DE-992AEF49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BA3-A3EC-49F1-97F5-B4D2F2D9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4CB-7374-496B-A466-149740E0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2DF-8E90-4675-8AD7-393A42CD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64CB2-312F-4149-9E49-FC8D317BCE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