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19362"/>
        <c:axId val="31950587"/>
      </c:barChart>
      <c:catAx>
        <c:axId val="49719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50587"/>
        <c:crosses val="autoZero"/>
        <c:auto val="1"/>
        <c:lblAlgn val="ctr"/>
        <c:lblOffset val="100"/>
        <c:noMultiLvlLbl val="0"/>
      </c:catAx>
      <c:valAx>
        <c:axId val="31950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19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15B-5144-4669-A47C-5D74A555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12F-5223-4E2C-BF8E-F51BFEF2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ED1-F672-4BB5-B4D0-B9B39E3F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7C7-A851-4E1C-A914-354FE348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8EE-5CE0-4FB6-A857-19F71884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DE0-70BE-4262-B5CF-071EB78D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5FE-0B3D-42F0-B602-ABA3EC92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DED-5B94-4957-8C2B-1B98E218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CA6-281B-4236-82C1-B8772DDB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084-3D27-4886-98C2-7AB9589D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318-EB56-4109-AF1E-EC8DD27E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0C1-2C77-48A7-99BB-20D2774D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6B26E-B8F3-41C8-B8D4-CF0129C096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