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39313"/>
        <c:axId val="19065318"/>
      </c:barChart>
      <c:catAx>
        <c:axId val="36039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65318"/>
        <c:crosses val="autoZero"/>
        <c:auto val="1"/>
        <c:lblAlgn val="ctr"/>
        <c:lblOffset val="100"/>
        <c:noMultiLvlLbl val="0"/>
      </c:catAx>
      <c:valAx>
        <c:axId val="19065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39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0D6-5489-4D1B-98E7-E4E01FC3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61C-E246-4DA6-8057-AA59959D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C92-0D88-479E-92F4-AD4E26C8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8CA-C0D0-46EA-88E9-C8589569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DD1-2080-445E-98A9-0E14514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259-C2E5-4350-831E-33FE77E2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FCE-D8C6-4700-B6E9-9D054967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B47-3497-4E8A-AC5E-26B8422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D00-6D72-45A4-BB65-DA685919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782-A9C8-419A-90A7-DF3FE188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ECE-7B7A-42F8-AD49-C202794D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5E5-6A18-4BBA-8190-4AB42E33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C5387-6180-4910-8A87-3B90894A3F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