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30310"/>
        <c:axId val="18396879"/>
      </c:barChart>
      <c:catAx>
        <c:axId val="75130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96879"/>
        <c:crosses val="autoZero"/>
        <c:auto val="1"/>
        <c:lblAlgn val="ctr"/>
        <c:lblOffset val="100"/>
        <c:noMultiLvlLbl val="0"/>
      </c:catAx>
      <c:valAx>
        <c:axId val="18396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0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485-FF21-4BDB-9A22-040957A7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C27-0320-4EB3-BEE4-5E273B40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E61-8BC3-4CB1-986C-23293DDC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A60-8C55-4222-BD59-270A0767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6B3-0BCD-41BB-976B-051A8F32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1FE-6D3D-4D00-A291-5C1C0BC6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29F-877A-4C93-B4EA-4019B9B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E17-6B94-4DE8-85C8-1DF9AF59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19B-E895-4198-9A08-7B3CCCF5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7D9-EB29-49A4-82A9-1DB9C20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10B-CC2B-4816-AD83-D142C71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014-36F6-48B7-AFD4-733C7F2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6486-E1A1-4284-BA68-E8DC31E3F0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