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731212"/>
        <c:axId val="11027107"/>
      </c:barChart>
      <c:catAx>
        <c:axId val="187312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27107"/>
        <c:crosses val="autoZero"/>
        <c:auto val="1"/>
        <c:lblAlgn val="ctr"/>
        <c:lblOffset val="100"/>
        <c:noMultiLvlLbl val="0"/>
      </c:catAx>
      <c:valAx>
        <c:axId val="110271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7312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F4F0-E7F6-452E-9A39-256EF74E5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FABD-DECF-44EC-8E21-F400D9B3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EA1B-D717-46E6-A449-2EA09CCA1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ABB6-F8F1-4642-BA58-2A934B948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908A-BD9D-4ED4-86CA-AFD419B7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73BC-7525-4AB2-8886-EEF19475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F92B-676C-424D-B587-F9051875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0961-BB4B-4865-BC20-F252D56A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574F-0A56-497C-B743-EEBE4526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22B1-2B64-4C4C-BA71-6FB9A458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4CEB-4C7B-448A-BE6D-044E63F2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9BE9-EE5F-4380-8F30-E6382446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548A8-1307-4B2C-89D6-2C91E45DB8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