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56770"/>
        <c:axId val="48073645"/>
      </c:barChart>
      <c:catAx>
        <c:axId val="78956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73645"/>
        <c:crosses val="autoZero"/>
        <c:auto val="1"/>
        <c:lblAlgn val="ctr"/>
        <c:lblOffset val="100"/>
        <c:noMultiLvlLbl val="0"/>
      </c:catAx>
      <c:valAx>
        <c:axId val="48073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56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5EA-CA10-4001-B759-8BBDB49B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A65-504F-4D29-9C79-7AB647DE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E61A-3B37-4644-AE51-5BF41EEC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0A7E-D534-4C60-8E37-D38F02BB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133F-1AA2-4EF5-93CE-9964695D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23C5-37FF-4E1C-A9BE-6052DCDB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377-3FFF-4532-B15B-F6562ADF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F3B-4CE2-437F-9992-BCB5D35B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D48-AEE1-441E-AB8B-674C9017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61B-265C-436E-93E8-2BC81F25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2E2-9BC4-4A83-9B19-08FC7473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011-171D-49C3-8D81-DAA141FD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31DA1-591E-4999-96A6-B9AF873773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