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73746"/>
        <c:axId val="19412810"/>
      </c:barChart>
      <c:catAx>
        <c:axId val="77973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2810"/>
        <c:crosses val="autoZero"/>
        <c:auto val="1"/>
        <c:lblAlgn val="ctr"/>
        <c:lblOffset val="100"/>
        <c:noMultiLvlLbl val="0"/>
      </c:catAx>
      <c:valAx>
        <c:axId val="19412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3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1D9-BA7B-49DD-904D-B03FC6AF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DC0-C620-441F-BCA8-2B78211D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2E9-32B7-482F-8E98-8E47E0C2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857-6562-4001-BCCA-51713580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E31-D450-4546-A8BD-EAA44282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17E-2BDB-437F-A8F8-83E42F8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1EE-2B71-4F07-BA36-B1CEA212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DA1-E10D-4447-A4D5-9A6B5E17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4C6-3D76-4DBE-B469-060EFCE7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6E1-A5A5-4C6A-96B8-3661A5C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FD1-EF7D-417F-A0D9-481A4BF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9B9-DBFD-4B02-925E-C960E38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9B09E-62F5-4DA2-99CD-AA3565276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