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29643"/>
        <c:axId val="87368247"/>
      </c:barChart>
      <c:catAx>
        <c:axId val="65129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8247"/>
        <c:crosses val="autoZero"/>
        <c:auto val="1"/>
        <c:lblAlgn val="ctr"/>
        <c:lblOffset val="100"/>
        <c:noMultiLvlLbl val="0"/>
      </c:catAx>
      <c:valAx>
        <c:axId val="87368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9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7FE-E56C-4E80-9710-658F84B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C6E-D4DE-4163-A3A5-339C3156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743-CBA5-4785-BC0A-C96FA305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8CE-0C4B-4B89-BA45-3021D754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1FC-B6C2-4226-9D9A-1E86CA36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5DB-BBE1-4DE4-89AA-009F2CA4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591-518D-4061-8975-13D27FE2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918-BD8D-44C7-A13D-09A53C94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248-16F2-4366-8807-31D7174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DE7-BF09-46EE-9191-A10DA12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89E-55BA-43C3-A545-E2AE3D0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19D-A893-46D7-A866-C2999FA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693B8-1E49-487F-986A-144DD8708A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