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55844"/>
        <c:axId val="53548378"/>
      </c:barChart>
      <c:catAx>
        <c:axId val="88558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548378"/>
        <c:crosses val="autoZero"/>
        <c:auto val="1"/>
        <c:lblAlgn val="ctr"/>
        <c:lblOffset val="100"/>
        <c:noMultiLvlLbl val="0"/>
      </c:catAx>
      <c:valAx>
        <c:axId val="53548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58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0F27-DC28-452C-9A0C-DFAE5919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000-D6C9-4FCA-8861-5762EFDE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E350-E8E6-446D-8901-D68EC4B8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F8B8-7682-4B9E-976B-94AC6D34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D240-BA00-4CB4-ABD7-84891819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B3BE-169B-48C4-833E-ED1E3764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CB9F-7844-4CC1-ABB9-CCE55932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969E-4AEF-43F6-846D-33236978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8AB-A013-4457-8AC0-16F9C3DE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E07B-927A-448C-9D63-928DC3F4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9BE0-E481-4F62-AA43-15775AFD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37AB-AC6D-4713-AB38-5167B93A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C6937-386B-41AB-8931-3B8CB2A646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