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8546"/>
        <c:axId val="35182166"/>
      </c:barChart>
      <c:catAx>
        <c:axId val="60698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2166"/>
        <c:crosses val="autoZero"/>
        <c:auto val="1"/>
        <c:lblAlgn val="ctr"/>
        <c:lblOffset val="100"/>
        <c:noMultiLvlLbl val="0"/>
      </c:catAx>
      <c:valAx>
        <c:axId val="35182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8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130-4824-411E-B61F-A1571873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282-10E1-4AB6-BFB0-547A2387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F56-AE83-41CB-99A1-A7C12141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70B-E546-40E9-B372-5B5CFA99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020-B45F-4D6A-9D7C-56D9E24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B4E-41F9-405C-A9BE-78D383A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D70-C973-47D2-98B1-FCACB12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4CD-80F3-48BF-AC88-B8EEA4B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BFC-02C2-47DD-9361-4C1D24E1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C97-A5E0-4CDA-AAE1-6EA17EE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286-EA96-4CCD-84B5-EFB8145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26C-5A7A-4B03-883B-E22B3EE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3119E-EBAE-4323-9059-FC7EE18DF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