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078239"/>
        <c:axId val="38363888"/>
      </c:barChart>
      <c:catAx>
        <c:axId val="100782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63888"/>
        <c:crosses val="autoZero"/>
        <c:auto val="1"/>
        <c:lblAlgn val="ctr"/>
        <c:lblOffset val="100"/>
        <c:noMultiLvlLbl val="0"/>
      </c:catAx>
      <c:valAx>
        <c:axId val="383638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0782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A08F-D5E8-4254-B5D0-786FF89CD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8778-3AF4-4F36-A84B-CE4BF7A1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9555-8B3E-46F3-8A09-59AA0E1FE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8A03-E532-4654-BF87-1E62A5274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15F3-2AAB-4265-B10E-0811CE00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7E3F-2AA3-4B44-8661-A8CA6E97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29F8-EBBD-44E8-A8FB-13AF646C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89F6-45C3-4C13-A28E-12E79ADD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D678-6B60-46EA-8DF8-22B2AAF7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9EF1-4C5F-4230-9D75-824B53BD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922F-83E5-40A6-BBAE-6E098EAE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FD1A-89AB-4EBE-BD7E-615132F8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8FB08-A702-45B6-AC3D-7CBD351D32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