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9309"/>
        <c:axId val="15948057"/>
      </c:barChart>
      <c:catAx>
        <c:axId val="5769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48057"/>
        <c:crosses val="autoZero"/>
        <c:auto val="1"/>
        <c:lblAlgn val="ctr"/>
        <c:lblOffset val="100"/>
        <c:noMultiLvlLbl val="0"/>
      </c:catAx>
      <c:valAx>
        <c:axId val="15948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9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899-0AC0-49CD-8AB0-1C074666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A53-9A20-4543-B6D7-8111A2CB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E20-17D6-4BE8-A12E-66F12471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E6DD-F07F-4389-837C-A8B5B064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F1E-530C-4C01-B464-1CD76932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A0B-C8C5-4453-ACB8-841457D6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7F0-995D-461C-84E2-19BD364E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E53-1C23-48EB-B65A-F8193563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415-0379-47BC-B204-C493D95E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2DD-C3AF-49F7-815C-96D69DFD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2A5-8F5A-4F3C-99D7-C3B88A6E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D9F-8505-45C8-82DD-4996A30E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FEF20-68EA-41D8-895B-3761504C01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