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6870"/>
        <c:axId val="15292118"/>
      </c:barChart>
      <c:catAx>
        <c:axId val="14076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2118"/>
        <c:crosses val="autoZero"/>
        <c:auto val="1"/>
        <c:lblAlgn val="ctr"/>
        <c:lblOffset val="100"/>
        <c:noMultiLvlLbl val="0"/>
      </c:catAx>
      <c:valAx>
        <c:axId val="15292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6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633-6069-4A27-9FF5-E6003917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412-D2C4-48E8-860A-7A76714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625-2101-4AA5-86E3-183BDD4D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831-E9D2-4E4E-9FB4-FC0617EB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90B-8972-4C7C-97D7-06CEB13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4EC-437C-4059-8C8D-7D2AD25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E9D-AA00-4AAA-8F0C-2D3C3D0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CD3-F56F-4190-999D-928C9EC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CAA-F42C-4964-BE6B-79ECA3C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CFF-713E-4AB2-8362-FEB77DE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C79-3296-486F-94BC-0CF076F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36F-36AB-43E1-9498-37571F1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390BE-58D6-4A6C-AD2A-2DE812614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