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17919"/>
        <c:axId val="37460893"/>
      </c:barChart>
      <c:catAx>
        <c:axId val="68317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60893"/>
        <c:crosses val="autoZero"/>
        <c:auto val="1"/>
        <c:lblAlgn val="ctr"/>
        <c:lblOffset val="100"/>
        <c:noMultiLvlLbl val="0"/>
      </c:catAx>
      <c:valAx>
        <c:axId val="37460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7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24A-6E2F-4267-8013-29F54A9F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065-8A4B-43D5-892A-71E2EC7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F10-DF61-481C-9A41-CAA6404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980-7590-439C-AA93-FF79A095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F48-FE50-470F-900A-508577A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982-F3C2-4773-9FDC-B1087CB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565-4EF3-42EF-948C-7186D61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8F8-5916-41B6-A5D3-FE9C86D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43F-3EF8-4117-ADFE-3595ECDE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9E8-6E95-43EE-8784-2E822C6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33D-8F6A-41C8-8D3D-B3ED592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A97-F14E-4656-8997-44FA687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F67A6-A1C4-4534-97DC-710CEA8FAA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