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84201"/>
        <c:axId val="14993430"/>
      </c:barChart>
      <c:catAx>
        <c:axId val="22784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93430"/>
        <c:crosses val="autoZero"/>
        <c:auto val="1"/>
        <c:lblAlgn val="ctr"/>
        <c:lblOffset val="100"/>
        <c:noMultiLvlLbl val="0"/>
      </c:catAx>
      <c:valAx>
        <c:axId val="14993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84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56E-7912-4D19-B2B0-0AA96739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37F-6184-40CF-984C-442E1D78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6F12-C051-46EA-BD00-203B1312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9BE-445C-4B69-999E-B5884D19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017-05BD-4B3D-A411-5E772574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0BE3-2110-43CB-900F-3B84CF19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630-75C4-4023-AEF2-BA2F10DB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BE9-0C6A-41BD-9957-8802E3BA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AF8-A23C-4CE1-8703-688D9836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3D1-DEAD-4925-9425-E92626F3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E6D-3839-420B-BA96-A533BFC5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906-4BD9-48B0-82C1-F22BD3DF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172E9-403C-4291-8AEC-6EE560B981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