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74537"/>
        <c:axId val="18705533"/>
      </c:barChart>
      <c:catAx>
        <c:axId val="99374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05533"/>
        <c:crosses val="autoZero"/>
        <c:auto val="1"/>
        <c:lblAlgn val="ctr"/>
        <c:lblOffset val="100"/>
        <c:noMultiLvlLbl val="0"/>
      </c:catAx>
      <c:valAx>
        <c:axId val="18705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74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3DA-9028-4249-9114-EE5E15AD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7F0-F3E2-49EB-981C-9B6EBC66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C7E-9B80-45D8-BFF7-3A626261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B92-C93D-4970-96A2-1230CACD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336-BA5A-415E-89F3-68B7779A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CD1-FC3B-455A-8478-2573D121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C4B-3BF2-4009-A162-BA01B36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7F1-2437-45BA-ACE2-286A11CF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0DC-BE90-4C3E-97DB-21041380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B57-9646-4D68-8B3E-8CB0EFA3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18E-93EE-443B-B438-97B2D3A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098-5B2C-41D7-B5BB-01F9E64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7B594-AD7D-4773-A5DE-5D7E41F66A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