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39214"/>
        <c:axId val="18416885"/>
      </c:barChart>
      <c:catAx>
        <c:axId val="108392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16885"/>
        <c:crosses val="autoZero"/>
        <c:auto val="1"/>
        <c:lblAlgn val="ctr"/>
        <c:lblOffset val="100"/>
        <c:noMultiLvlLbl val="0"/>
      </c:catAx>
      <c:valAx>
        <c:axId val="18416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392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EEA5-2934-4DDB-B7B8-44C2FECE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E84D-C2D3-463B-84F8-A295E9E3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AE8-BD36-4DF9-9C79-9E5DFDA9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042-F5FE-4827-9A96-74D630B5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50F-BB85-4DC7-89E3-2E6F4905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672-D4F8-4286-95D9-562F04EC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C7B-BEA5-4C41-BE3B-1179FEAC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15B-19A0-4A31-8552-778A0BBF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682-FB3E-4D81-A39D-B3A5540B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A82-8149-4922-85F9-39B86E24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AF3-CBE6-454B-8B03-43FD452C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DD0A-3FB2-4D3C-909D-2868D9C0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3D4B9-524A-4370-9967-BFD908031F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