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32872"/>
        <c:axId val="72900030"/>
      </c:barChart>
      <c:catAx>
        <c:axId val="95732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0030"/>
        <c:crosses val="autoZero"/>
        <c:auto val="1"/>
        <c:lblAlgn val="ctr"/>
        <c:lblOffset val="100"/>
        <c:noMultiLvlLbl val="0"/>
      </c:catAx>
      <c:valAx>
        <c:axId val="72900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32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0D5-3807-42D7-9670-C877B0B0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B57-EB63-4D7E-8449-7383E2F9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C0B-1DC1-496B-8BAF-0C5C28D4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242-0297-410A-85D7-B36CA6DD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78-40C4-41A4-89B4-096EF90F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472-F2CE-47E4-AD2B-8F7FB0CD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F14-0C3E-43EB-AE54-6590E980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30A-91BC-4CE0-9914-AC6FBE9A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00B-8F95-4BE4-9D37-B1A921C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F6D-0054-42E9-9A3D-8BC2061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ED0-09E6-44A9-816E-A3A1BAE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CDA-2758-45F1-A9E4-63D3A8F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1773-729F-4BB4-978E-514789279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