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88256"/>
        <c:axId val="40258493"/>
      </c:barChart>
      <c:catAx>
        <c:axId val="65988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58493"/>
        <c:crosses val="autoZero"/>
        <c:auto val="1"/>
        <c:lblAlgn val="ctr"/>
        <c:lblOffset val="100"/>
        <c:noMultiLvlLbl val="0"/>
      </c:catAx>
      <c:valAx>
        <c:axId val="40258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88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C61-B359-4E7B-AD23-7AD43E78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AA8-A180-4858-AB35-41E3293B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431-1C92-4DD0-AA32-9E3926A0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B8A-9936-4789-9292-38639AC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C7E-8934-4566-92C5-C2B2F6D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97B-508D-4CF5-A303-A219D872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E83-245B-4F29-848B-51A067AD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EB1-6B21-4641-9C33-CF1B8BD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1CA-9F3D-4C6A-A041-873504FE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980-6A6F-413C-B380-EBE6CD6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68B-31D8-4B44-AA5C-17062C1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89D-434B-42C8-87C2-9252B48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E1B93-B609-4E1E-A1CE-1F29F6636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