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70655"/>
        <c:axId val="63682429"/>
      </c:barChart>
      <c:catAx>
        <c:axId val="38470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82429"/>
        <c:crosses val="autoZero"/>
        <c:auto val="1"/>
        <c:lblAlgn val="ctr"/>
        <c:lblOffset val="100"/>
        <c:noMultiLvlLbl val="0"/>
      </c:catAx>
      <c:valAx>
        <c:axId val="63682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70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4B1-B983-4229-A455-F730DD91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1E00-1C57-41B0-ACB7-CCEECA6D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4700-E2A0-4940-B7DC-E3B77F23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4E3-9A94-4F88-ABAF-A67A94FE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204-2AF2-4C2F-9DC7-CF0CABF3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D5B-4961-488B-A1F6-B11A6FA6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F23-B06B-4DF7-94FF-87CACB04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A0B-7751-471B-91BB-B22A3B89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0EA-7907-4B92-8D44-90AA57F5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39B-D979-4A17-A11C-118041C1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D5F-DBB0-4E3B-8232-1B95762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E22-4B21-4910-8F05-AD8FC1F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387FE-E761-403E-BD12-4AB1557196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