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61984"/>
        <c:axId val="81048996"/>
      </c:barChart>
      <c:catAx>
        <c:axId val="27261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8996"/>
        <c:crosses val="autoZero"/>
        <c:auto val="1"/>
        <c:lblAlgn val="ctr"/>
        <c:lblOffset val="100"/>
        <c:noMultiLvlLbl val="0"/>
      </c:catAx>
      <c:valAx>
        <c:axId val="81048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61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09D-5DEE-4B20-B0FD-AA1B1B2A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C78-7CCD-4893-B86B-BF2BDA88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F30-9DAE-4F0D-9CA3-8E804730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77A-9118-48E8-BB13-6663CDC2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B75-1AC5-4CA1-A76C-871685D7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C1B-065B-4A81-990E-62A2A619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05F-3F3B-4FF1-B509-D748EA3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34D-FF98-4622-B0CA-C012F538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7D3-1D45-48E7-A72F-FF0CDE1C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194-DB00-43B7-9B54-58849294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E2F-F049-4743-950A-A6AC141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FED-02B5-4654-83A6-1632A81F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FDDBC-C895-4D44-8B9B-B83FE9BC67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