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51638"/>
        <c:axId val="14785463"/>
      </c:barChart>
      <c:catAx>
        <c:axId val="958516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85463"/>
        <c:crosses val="autoZero"/>
        <c:auto val="1"/>
        <c:lblAlgn val="ctr"/>
        <c:lblOffset val="100"/>
        <c:noMultiLvlLbl val="0"/>
      </c:catAx>
      <c:valAx>
        <c:axId val="147854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516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E64-B3B6-4B19-98B6-26CA696C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341-9482-4908-B384-E3992838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409F-FB63-4979-A751-43988568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B2C-A46D-4D17-9746-529588FC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072-F865-4C4C-9F6B-4EF0C229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20A3-B10A-4B51-877A-3F2B2401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67FA-AD25-461E-8885-43A6912E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3852-DE80-486D-AB3D-B1880001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F27-710D-45A9-A5F3-8F0474E8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4A4-1641-423B-A12B-609A0DC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391-5790-44FE-A6C2-3B715531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EC6-D689-4E6B-8A6F-22BE3A7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4F84A-C5B9-4AA9-9B36-BEF5F5CB5A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