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08727"/>
        <c:axId val="87404187"/>
      </c:barChart>
      <c:catAx>
        <c:axId val="78708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04187"/>
        <c:crosses val="autoZero"/>
        <c:auto val="1"/>
        <c:lblAlgn val="ctr"/>
        <c:lblOffset val="100"/>
        <c:noMultiLvlLbl val="0"/>
      </c:catAx>
      <c:valAx>
        <c:axId val="87404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08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D93-EC5D-4EF6-B635-9047AA02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FF3-74EA-4305-8557-C956E5FE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3BA-7C95-48AA-95BD-6C426765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5D1-20A8-4F54-A3AB-7C7A6DC4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3B7-9918-49B4-A15A-668783E5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ACB-2A7C-4B9B-A6E1-5B7918D2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07E-8062-41DF-91EC-5774CFD4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EE9-0F9A-4709-8BB5-D2CB26B9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92D-3F96-42EA-9759-6B633D38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60B-FEE4-4030-891A-630AA7FA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706-ECE7-4E77-84E4-BAE5D39E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ACF-0765-476A-A26A-EBCA353D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05B9B-81A5-4686-9735-56BBD5D94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