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16072"/>
        <c:axId val="27010837"/>
      </c:barChart>
      <c:catAx>
        <c:axId val="59416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0837"/>
        <c:crosses val="autoZero"/>
        <c:auto val="1"/>
        <c:lblAlgn val="ctr"/>
        <c:lblOffset val="100"/>
        <c:noMultiLvlLbl val="0"/>
      </c:catAx>
      <c:valAx>
        <c:axId val="27010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16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163-9145-489A-BA93-AFFDD6D3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656-868D-4603-AD56-49F615D3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3E7-4968-4B5F-9E4F-F3B072B1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D8C-01F1-42AA-BCFD-A0D672F9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FE7-8A15-4EC9-ACFB-8732BA4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C94-05C6-4B76-BEC3-AFCCB1B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0D5-4A63-49D7-B19B-E13B5BF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71F-43D5-4030-B267-A8DB07B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834-0584-4CAB-AE84-8D0CDF8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B87-A01E-428D-9A78-F4F5D31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18C-1E9C-4199-BE3B-D60D74C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9FD-1879-4038-BB8F-9E0C040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09145-991C-48DD-BA34-0C4A9260F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