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32450"/>
        <c:axId val="20861680"/>
      </c:barChart>
      <c:catAx>
        <c:axId val="33932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61680"/>
        <c:crosses val="autoZero"/>
        <c:auto val="1"/>
        <c:lblAlgn val="ctr"/>
        <c:lblOffset val="100"/>
        <c:noMultiLvlLbl val="0"/>
      </c:catAx>
      <c:valAx>
        <c:axId val="20861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32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70E-495F-4FED-885A-EBDF59C1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642-5868-4A5F-B9B0-97B5EC8C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298-4AF0-41AE-A201-0179D08A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3C34-F6B0-45AF-A80D-EB16F322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79E-014E-4815-80E3-284A7BE6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B6F-828A-4C5F-AA94-E084950D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FDB-0A50-4280-B57B-8F3A3AE6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D3F-FD0C-4F67-9957-4E77B882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901-7E2A-4869-B5C1-C7CB272E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241-32E5-4B4D-907B-F27A7276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92C-CCA1-44DC-8A57-2BD27B49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758-B6B4-4850-83F8-76B54F15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52155-EA38-468C-BDC7-14391B9BDB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