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586467"/>
        <c:axId val="41143585"/>
      </c:barChart>
      <c:catAx>
        <c:axId val="545864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143585"/>
        <c:crosses val="autoZero"/>
        <c:auto val="1"/>
        <c:lblAlgn val="ctr"/>
        <c:lblOffset val="100"/>
        <c:noMultiLvlLbl val="0"/>
      </c:catAx>
      <c:valAx>
        <c:axId val="411435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5864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4D40-88F9-445B-94C7-7DB8BCA79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24E4-5A19-4491-92BE-96C176449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36D5-CF50-43F9-9DFB-A9219A718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AC09-0AED-4334-A6F4-D4FB8AF03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F6DD-7F95-4D00-86A6-8FA65ABD1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0D4F-9534-48BF-B3DC-398D34BEB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649F-D951-4AEB-84BF-A0F9D9EF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99A4-0D61-4FB2-AF98-857E0275D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7AEB-FE5B-4A1A-9070-F2D3E2575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B84D-4D1A-4353-8B16-7BAB7311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17E9-601E-451F-A2C4-E329FEC3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DEB6-3B18-4749-B57C-01FC01FE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F637B9-1C1F-4B7F-AAD0-58FAE651D3D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