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44544"/>
        <c:axId val="42730409"/>
      </c:barChart>
      <c:catAx>
        <c:axId val="53044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0409"/>
        <c:crosses val="autoZero"/>
        <c:auto val="1"/>
        <c:lblAlgn val="ctr"/>
        <c:lblOffset val="100"/>
        <c:noMultiLvlLbl val="0"/>
      </c:catAx>
      <c:valAx>
        <c:axId val="42730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44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23E-FE72-41CF-84A5-421F8606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5C3-ABA4-4197-84E6-4D38B240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D85-A3E1-4CA4-8DA0-1C09E1AA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A2E-4371-4993-B337-C8972DB0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7A0-FFF0-4E56-9BBB-23FB02E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B39-166E-4159-8B37-190F6E7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769-7E11-4ABD-9FCE-496FA62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A07-F519-47F3-89BD-1075E78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2BD-A1B5-4865-89AF-4E40885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CDC-3298-4E1D-ACE0-DEE6555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B18-190B-4112-B133-752E80A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BA-1953-4AF6-A078-3F7CF82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2A87-4118-4D88-BDE3-0927F50F6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