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78507"/>
        <c:axId val="94068853"/>
      </c:barChart>
      <c:catAx>
        <c:axId val="78578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68853"/>
        <c:crosses val="autoZero"/>
        <c:auto val="1"/>
        <c:lblAlgn val="ctr"/>
        <c:lblOffset val="100"/>
        <c:noMultiLvlLbl val="0"/>
      </c:catAx>
      <c:valAx>
        <c:axId val="94068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78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E60-A016-423F-B9DF-CA6C3150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885-6140-42B5-930C-4A965CDC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D1E-68E5-4450-8D53-2B94A0B2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A08-E398-45B7-9C13-BF88EDFA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FF6-F4B3-4DEE-90B8-E8BB7786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0E0-36A1-471F-A6DF-06EB214A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0F4-A3A8-4A36-B695-362726B8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305-0391-4B88-AA61-3CC0261A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D6C-862D-47D2-B832-845B28CE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49C-4FBD-4024-A0B0-50A09F5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0AB-C5F0-42AC-8B1B-9860B19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2A9-B939-4A29-965A-B3FC43F0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68A35-4650-4BCE-800E-2B2F3678B2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