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47695"/>
        <c:axId val="95163381"/>
      </c:barChart>
      <c:catAx>
        <c:axId val="96947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3381"/>
        <c:crosses val="autoZero"/>
        <c:auto val="1"/>
        <c:lblAlgn val="ctr"/>
        <c:lblOffset val="100"/>
        <c:noMultiLvlLbl val="0"/>
      </c:catAx>
      <c:valAx>
        <c:axId val="95163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7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527-9ED2-4046-B252-516577B4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2E4-CC3A-4E7A-AD7E-3CF7EBE3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0F1-02BF-4F83-A557-5E45985C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A84-0B4F-447A-8BDF-A0B03209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915-5F4F-4F5E-99F8-98039F14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827-54D5-47A8-8687-21CDD15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32E-4A7B-4EED-B17F-960CEAFE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6A-2E7B-4FC5-B33C-AA55F8E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558-A1E3-4114-A109-430594E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567-11DB-4D8F-9815-542F32D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502-7ACE-4E79-B11B-D7E3745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A89-7083-4E83-9D10-7DEA6CB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B456-885C-4E96-9040-503BC7D7E4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