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18792"/>
        <c:axId val="37322689"/>
      </c:barChart>
      <c:catAx>
        <c:axId val="73118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22689"/>
        <c:crosses val="autoZero"/>
        <c:auto val="1"/>
        <c:lblAlgn val="ctr"/>
        <c:lblOffset val="100"/>
        <c:noMultiLvlLbl val="0"/>
      </c:catAx>
      <c:valAx>
        <c:axId val="37322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18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12C-17A0-4CB7-829D-3BDC3A76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815-CEF0-42D9-892E-6ECE9647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9B8-E1E2-4A63-95E3-D813C24D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8800-DB0B-4B3F-A64F-7F1600E5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223-E09E-4B09-B53A-81BF498E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3F1-078D-430C-83B8-5DFABE92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5D6-6500-4055-B035-9F37DFD9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A6F9-48E3-41F4-B227-0D70C232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EBC-53B9-4F90-9D7C-6FEC2E38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680-5330-4078-8D84-F8C30D1E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80E-BF2C-4FF9-99D5-5B3A5084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DCDF-90F3-4532-8220-C4606518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BD6B1-63E9-4D7A-852E-7CE903E8CE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