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39185"/>
        <c:axId val="53458398"/>
      </c:barChart>
      <c:catAx>
        <c:axId val="12639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58398"/>
        <c:crosses val="autoZero"/>
        <c:auto val="1"/>
        <c:lblAlgn val="ctr"/>
        <c:lblOffset val="100"/>
        <c:noMultiLvlLbl val="0"/>
      </c:catAx>
      <c:valAx>
        <c:axId val="53458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39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28C-9B26-4D63-A706-080A474E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909-C058-4651-A0EA-29E17459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0546-6FCF-4DB9-A590-9F7009D7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AA4-B617-4499-9973-27ADBDD6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C0A-FDD7-47F4-81FA-1A006719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7DA-DE8E-49AC-939A-46CFEE2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2F1-8FC4-4175-84AD-202A8A78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BE4-30B8-4B04-A747-7E3DB226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8E3-18D7-4D52-9A35-787069C7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0FD-C6F3-4D2A-9502-97867883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969-3676-40D0-B6D6-87F7B197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546-9327-42D7-9995-6ED50C06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1E459-B858-454B-A3EC-9427758EA3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