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93579"/>
        <c:axId val="38346714"/>
      </c:barChart>
      <c:catAx>
        <c:axId val="27893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46714"/>
        <c:crosses val="autoZero"/>
        <c:auto val="1"/>
        <c:lblAlgn val="ctr"/>
        <c:lblOffset val="100"/>
        <c:noMultiLvlLbl val="0"/>
      </c:catAx>
      <c:valAx>
        <c:axId val="38346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93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F06-E095-4CAF-8584-BEAE5C4C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795-B424-4FD9-B3A9-A6842C03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938-80EF-4DEF-A2FF-5E696491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1DE-DC34-43D5-B39E-8722D311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BE8-0794-48C2-8493-BE5CFC92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3F1-9969-41EC-9FC6-C7E13212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5BF-D779-43C8-AE97-60F0D575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103-FDE2-4E59-ABEE-45FC119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91D-D498-4A7A-A2AC-FBE37F9B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D63-6D1B-4A76-9571-5D25F3B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695-6C1D-4DA9-B116-91646BE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A22-239D-4D04-B44B-7AAB1D6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07232-2016-4C8A-9A81-2466BB624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