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05055"/>
        <c:axId val="90038125"/>
      </c:barChart>
      <c:catAx>
        <c:axId val="57705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38125"/>
        <c:crosses val="autoZero"/>
        <c:auto val="1"/>
        <c:lblAlgn val="ctr"/>
        <c:lblOffset val="100"/>
        <c:noMultiLvlLbl val="0"/>
      </c:catAx>
      <c:valAx>
        <c:axId val="90038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05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B20-DC90-4C49-AEBC-F518207C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AEC-7399-4E1B-92D4-A80287F5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7C1-9B99-4107-8EFF-C63EE105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692-880E-4268-8B28-0E732EF4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BD2-475C-40F3-B08A-94AA88D9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658-36E9-46C8-BA7F-D8D1024B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E8C-1969-4A9E-A5B4-A5BD6222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2DF-40BE-489B-AAF9-806FA74B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63D-8E31-4D95-A983-16521481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8C9-D96B-4798-BCAD-42568EF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4A5-0A4E-411E-8C4E-063CB129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C74-FE61-4C2C-A5FE-95534241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CF53E-33F2-43CD-BA8D-DEA89AD8E3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