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772609"/>
        <c:axId val="31445265"/>
      </c:barChart>
      <c:catAx>
        <c:axId val="597726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445265"/>
        <c:crosses val="autoZero"/>
        <c:auto val="1"/>
        <c:lblAlgn val="ctr"/>
        <c:lblOffset val="100"/>
        <c:noMultiLvlLbl val="0"/>
      </c:catAx>
      <c:valAx>
        <c:axId val="314452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7726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9964-2970-4049-BAE5-DB46C3CA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922D-E824-4859-BA5F-723D2BBA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918C-845C-41F5-9331-E1A6CEABE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F157-A423-4AA8-A9F6-A477C04F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4C71-95F9-490D-A1CB-328A2D5F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33AA-5218-4541-BD35-C5CF2416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7BEB-E831-459F-B98D-9952E493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F056-69E6-4BE1-B3C2-3614ADD0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D9A4-DC9C-4303-A46C-03E58ACC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80E0-1A7E-4911-B267-4C7BB2A0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7768-265E-46ED-8D50-09AA59AA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C7C3-EBB4-4386-8E21-6CC50DA6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275C1-A1EE-40EB-8EA8-AED73A0DAD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