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53902"/>
        <c:axId val="59062706"/>
      </c:barChart>
      <c:catAx>
        <c:axId val="22853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2706"/>
        <c:crosses val="autoZero"/>
        <c:auto val="1"/>
        <c:lblAlgn val="ctr"/>
        <c:lblOffset val="100"/>
        <c:noMultiLvlLbl val="0"/>
      </c:catAx>
      <c:valAx>
        <c:axId val="59062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3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63C-DCD2-467F-95D3-A3556E1B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41A-CB2C-4E7B-84A9-3B926FB7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84D-D791-46C9-8161-14BB99E3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0ED-0ED5-4BF5-BB51-876A208A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F4E-0023-4F0A-AF2E-06CA6992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EEA-B436-4E2C-A903-0BE7FADE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F7F-1A23-4C6B-8681-3CA9622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9DA-04CD-4FD9-9E16-FCB2AEEB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069-E93D-4319-B1C9-AFEADDA8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1A3-9682-48A9-815D-CDCE904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AEC-BDC0-4004-9D8F-BE5CA32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456-93E7-4C68-B5C8-4DE49FC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9003D-9ECA-40C0-AB03-458E33E716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